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6D5-E4F3-494B-85A5-A0714E0E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984-EB7B-48D0-A405-32DA3414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706-2914-4AE2-98EF-21CBF923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0A8-A371-4575-9C2B-3578A0D6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3E5-AE14-4ADD-B5ED-670B01C5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411-A50A-40BB-A782-51B7FC67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A27-5850-4ED1-876A-F9608E9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406-099A-4B86-80C1-AC364844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E9C-6F2D-4875-B3F0-4C5D05B1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20B-78F7-4615-90E6-1B84C589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376-9AD2-4C78-9A07-7B8C45F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8A7-96E9-43FD-8DAA-7EBE996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F179-3CBD-4E0B-9334-8FA8311F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48:12Z</dcterms:created>
  <dc:creator>Rooseveltlab</dc:creator>
  <dc:description/>
  <dc:language>en-US</dc:language>
  <cp:lastModifiedBy>Rooseveltlab</cp:lastModifiedBy>
  <dcterms:modified xsi:type="dcterms:W3CDTF">2008-10-30T21:48:51Z</dcterms:modified>
  <cp:revision>1</cp:revision>
  <dc:subject/>
  <dc:title>Slide 1</dc:title>
</cp:coreProperties>
</file>